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56A-7985-4747-99EE-4D265E71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12E-EB5C-4871-BCEC-EDCD972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17B-64A2-41FA-8217-ECDA66AB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E1F-3620-4DEB-B0DC-7AE1196E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1039-6891-4133-A704-DBA79517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42D-6628-486C-B3AB-EB73E6C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D033-B089-4794-9DD2-65E9EEFD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9477-A751-41A4-8879-D6B6EB9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A1E-281A-4B9F-9C10-326B49B8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5B7C-90F6-48E4-A130-2577E845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5BA-151C-4E87-BB5D-0EA1096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672-433A-4768-A989-06464E8F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6413-01F8-439E-AFD3-7D8D3B3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89B6-A9D7-47B8-A490-8DA2C7E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449D-34A6-4415-A009-949118C4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9A99-B27E-4C28-96EC-A485821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FAE-0A00-48A7-9AE2-8C78A5B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74A5-AF1A-47E0-80AA-9618B17C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20B6-3F25-4086-8715-C24DF84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E302-1B76-4572-B7C6-FCFF8E60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7376-9056-40F5-930D-8D0E3A3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6745-178D-4F68-BC3B-FD4F8BD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30C-C69D-42DA-83B0-961C2D9A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E306-3F36-48E5-A627-4DDF94EB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95DF-6746-460D-9D87-9FD4033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B0B9-AFEA-4673-8EAC-DBF513F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ADEE-BFF4-4245-BCE1-9B1E5F6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F27A-7DD1-4870-A2F0-8C383149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3DD5-D1EA-4218-B016-8138103D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8484-8E6C-4197-A58A-A5CE04A5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8EDFC-5CB0-403F-A503-AFE706B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E9E5-9691-40B4-8A6C-B6E6CB72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25AA-9A75-4384-AD13-8D03D8A5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119-3128-4828-9CFC-A4DEB5E2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010B-8D52-484F-8C2E-3492E6C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74DA-AD6D-47AE-AFDC-77E89B7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11AD-102C-4762-AE5F-AEBCD63F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5808-DD10-4AD5-A1E9-0511375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6483-207C-41AA-820B-07B15592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41D4-0608-4FB3-9514-EA4874D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D839-93EB-44B2-BA40-8C994D89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946A-C8FB-41FE-944A-65C4BE23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B0EF-B3C7-4FA9-8EC4-C09C37B2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9EEE-69BC-4122-AC3E-3F0C4532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144-78BE-4262-A15B-E7C47907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7CEF-D144-4119-8C46-4950C82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896C-80BE-49CE-91BC-9188B17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AC64-A239-445C-B185-50E4303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5542-87F6-44B8-B79E-B3B32A0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4F8F6-027D-4B94-A3BD-5C02FBE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9476-F295-4677-ABBA-76616ED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A738-8D77-443D-B9C9-422DC892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583D-E230-4421-876D-7C68D2E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A812-1077-4A2C-982F-410EA3B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0680-1B62-42B7-82DB-07AA2A2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6DA-2731-44FE-8886-1EF0A553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F088-1BFC-4175-BD81-6E3DE678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2D1-89A4-4707-B072-BD3731F4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0B4-AAFE-4EAC-9719-BBDEE61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E7C-6460-4940-A9C7-29117EF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648-B5D7-4E68-A89D-8F91495BB4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A2F-A26F-4479-81EE-BF38A6E2A5A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1F3C-B66E-4D65-927B-CD357F7EF1F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8E8-CB35-4793-B8DB-973B0CD6437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F9C3-0455-4A8E-BF98-41DFECB42C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RESENTATION SKILL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omputer Applications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ye Cont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eye contact with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good posture (stand stra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hands appropriately (do not touch face, hair, or jewelry with han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good body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ead from the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ake your ti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ush through the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ime to smile at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se for a few seconds between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tend you are having a conversation across the kitchen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hears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your presentation before you present to th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sure you know what to s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note cards to help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read from the sli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Voi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 loudly and clearly and project your vo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mu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k for Ques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 audience if they have any 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ask during the presentation as well as at the end of the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the audience for list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3:48:46Z</dcterms:created>
  <dc:creator>image</dc:creator>
  <dc:description/>
  <dc:language>en-US</dc:language>
  <cp:lastModifiedBy>image</cp:lastModifiedBy>
  <dcterms:modified xsi:type="dcterms:W3CDTF">2012-11-26T18:02:42Z</dcterms:modified>
  <cp:revision>1</cp:revision>
  <dc:subject/>
  <dc:title>PRESENTATION SKILLS</dc:title>
</cp:coreProperties>
</file>